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10.wmf" ContentType="image/x-wmf"/>
  <Override PartName="/ppt/media/image3.wmf" ContentType="image/x-wmf"/>
  <Override PartName="/ppt/media/image4.gif" ContentType="image/gif"/>
  <Override PartName="/ppt/media/image12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DDD-3586-401B-89A1-F219F64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83F-EF24-42A9-BF2F-9AD338A3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B1D-9370-4CCC-B40E-740BB739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FAE-8CCE-4D41-933E-4B38DB2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E36-ED31-4EC8-A754-8384189B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C4B-25F8-4301-8C52-4626F29C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FF3-36D2-4155-930B-8E3BED88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73A-9804-4793-A6F2-88F058B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CBC-5F02-4003-826E-74B9CCD7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451-B879-4DD0-887F-0D4BB9D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130-3EB6-4689-A0B8-7DD5084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65C-1DCE-4319-81E9-A6E24D7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19B-BD61-4B39-8AF3-307D55E9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Trail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r Mount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ike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990720" y="6553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outes Around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park everyone can 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st you keep It cl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0 min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k op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am to 10p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n-S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76720" cy="63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668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5257800"/>
            <a:ext cx="1819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s and Drin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Do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h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le of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" y="4876920"/>
            <a:ext cx="31240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2398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Enjoy The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th Friends And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253656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238880" y="304920"/>
            <a:ext cx="1905120" cy="192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16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124080" y="3429000"/>
            <a:ext cx="28828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9:39Z</dcterms:created>
  <dc:creator>770765</dc:creator>
  <dc:description/>
  <dc:language>en-US</dc:language>
  <cp:lastModifiedBy>770765</cp:lastModifiedBy>
  <dcterms:modified xsi:type="dcterms:W3CDTF">2009-03-19T15:56:56Z</dcterms:modified>
  <cp:revision>4</cp:revision>
  <dc:subject/>
  <dc:title>A trail for Mountain Bikers</dc:title>
</cp:coreProperties>
</file>